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CDFA-D9D2-42F4-B7FD-7F69A3DE1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B855-0E5D-4E3B-ACF8-73E36E04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9453-0F81-45ED-8259-C7A62BA20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3A96-F372-4471-B7C2-35D3FF04B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48BE-8A4D-458D-B402-F5EB533C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38C6-BDAA-4B60-BC01-9DC37946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BCB5-232D-4B6E-A636-79FE4C70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605F-A97D-45A3-8216-D1704CEF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F594-6F72-46CD-BD1B-0A03ED95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5148-64B5-4754-AA1A-335A160D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33DF-F720-4DA3-A374-0798EA7C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C447-A18E-4BC8-BE6B-847C9C00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3C32-DDDE-41B6-A118-4FCB9C86C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perkins.html" TargetMode="External"/><Relationship Id="rId3" Type="http://schemas.openxmlformats.org/officeDocument/2006/relationships/image" Target="../media/image1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d694"/>
            </a:gs>
            <a:gs pos="50000">
              <a:srgbClr val="ff0180"/>
            </a:gs>
            <a:gs pos="100000">
              <a:srgbClr val="58d6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0" y="0"/>
            <a:ext cx="609588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Kool-Aid!!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4724280"/>
            <a:ext cx="22096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10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#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4176720"/>
            <a:ext cx="2330280" cy="2681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352680" y="45720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ed by: Edwin Perk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75 -0.43284 C -0.06528 -0.49457 -0.02604 -0.58289 0.02066 -0.58289 C 0.08975 -0.58289 0.14583 -0.49087 0.14583 -0.37457 C 0.14583 -0.33711 0.14027 -0.30289 0.12882 -0.27191 C 0.1309 -0.27191 -0.0875 0.18982 -0.0875 0.19398 C -0.0875 0.18982 -0.30608 -0.27191 -0.304 -0.27191 C -0.31545 -0.30289 -0.32084 -0.33711 -0.32084 -0.37457 C -0.32084 -0.49087 -0.26493 -0.58289 -0.19393 -0.58289 C -0.14914 -0.58289 -0.1099 -0.49457 -0.0875 -0.43284 Z">
                                      <p:cBhvr>
                                        <p:cTn id="24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505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Perkins"/>
          <p:cNvPicPr/>
          <p:nvPr/>
        </p:nvPicPr>
        <p:blipFill>
          <a:blip r:embed="rId1"/>
          <a:srcRect l="60010" t="0" r="3328" b="0"/>
          <a:stretch/>
        </p:blipFill>
        <p:spPr>
          <a:xfrm>
            <a:off x="152280" y="0"/>
            <a:ext cx="3353040" cy="3809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00400" y="3809880"/>
            <a:ext cx="5715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melsons MIT Program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ool-Aid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January 11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perkin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67080" y="4572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of days the Kool-Aid company makes leomande flavored Kool-Ai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200400" y="4495680"/>
            <a:ext cx="2052720" cy="2362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553080" y="1219320"/>
            <a:ext cx="2222640" cy="2377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9 0.12119 L 0.125 0.12119 L 0.048 0.19577 L 0.077 0.31697 L 0 0.24239 L -0.077 0.31697 L -0.048 0.19577 L -0.125 0.12119 L -0.029 0.12119 L 0 0 Z">
                                      <p:cBhvr>
                                        <p:cTn id="34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Kool-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ol-Aid started in Hastings, Nebra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Kool-Aid flavors were strawberry, cherry, lemon-lime, grape, orange, and raspber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ol-Aid was first spelt Kool-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ol-Aid is the official soft drink of Nebrask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929 Kool-Aid  was distributed nation-wide to grocery stores by food brock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ol-Aids trade mark is a smiley faced pit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kid friend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Perkins got Kool-Aid was by getting all the juice out of a fruit-sn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0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5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0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5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0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5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0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5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Edwin Perk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child Perkins experimented with home-made concoctions such as flavoring, extracts, and perfumes in his mothers kitch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18 Perkins married his childhood sweetheart (Kitty), and continued to operate Perkins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6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8:31:38Z</dcterms:created>
  <dc:creator>install</dc:creator>
  <dc:description/>
  <dc:language>en-US</dc:language>
  <cp:lastModifiedBy>install</cp:lastModifiedBy>
  <dcterms:modified xsi:type="dcterms:W3CDTF">2011-01-14T17:09:19Z</dcterms:modified>
  <cp:revision>15</cp:revision>
  <dc:subject/>
  <dc:title>Slide 1</dc:title>
</cp:coreProperties>
</file>